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-13968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omposting </a:t>
            </a:r>
            <a:br>
              <a:rPr sz="8400"/>
            </a:br>
            <a:r>
              <a:rPr b="0" lang="en-US" sz="8000" spc="-1" strike="noStrike">
                <a:solidFill>
                  <a:srgbClr val="ffff33"/>
                </a:solidFill>
                <a:latin typeface="PortagoITC TT"/>
                <a:ea typeface="PortagoITC TT"/>
              </a:rPr>
              <a:t>For Dummies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8242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tudent Sample Present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911840" y="3187800"/>
            <a:ext cx="317808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biotic Factor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Physic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971800"/>
            <a:ext cx="10464840" cy="544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 u="sng">
                <a:solidFill>
                  <a:srgbClr val="ffffff"/>
                </a:solidFill>
                <a:uFillTx/>
                <a:latin typeface="Gill Sans"/>
              </a:rPr>
              <a:t>My Research Project</a:t>
            </a:r>
            <a:br>
              <a:rPr sz="8400"/>
            </a:br>
            <a:r>
              <a:rPr b="1" i="1" lang="en-US" sz="8400" spc="-1" strike="noStrike">
                <a:solidFill>
                  <a:srgbClr val="ffed18"/>
                </a:solidFill>
                <a:latin typeface="Gill Sans"/>
              </a:rPr>
              <a:t>Vermicompost:  Composting With Worm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is Vermicompos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Getting Starte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To Start I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blem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ip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ank you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is Compos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Happens to Most Garbage We Collec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y Do People Compos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enefits of Compost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Ecology of Compost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Biotic Factor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 The Critters and Waste Produc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Abiotic Factor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 The Chemistry and Physic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61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iotic Factor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nergy Pyrami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33520" y="3111480"/>
            <a:ext cx="11925360" cy="55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iotic Factors: 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ompost Food Web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65360" y="2679840"/>
            <a:ext cx="7854840" cy="68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biotic Factors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Chemistr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